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5FA03-101C-4AB1-BE67-692AF83A80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1CF39-5505-4A19-8930-708F34B1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891D4E-30DB-4E17-A3C8-BC91E685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A24BC8-AB42-4903-B6A9-970FD661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EB77B1-F65D-44C7-A142-DF00E398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6BBD3D-75A5-4355-91F4-CD70E454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9E71F7-CAA2-49EF-AD63-BA498A23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2E1D4F-005B-460C-9ACC-86747D28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142EF3-D326-4AC0-9D5D-8AA6D016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EF49EB-649B-4066-8F9B-7673DD9E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A300B2-281B-490F-A4C4-90B639D15C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475ED-83AE-4CFC-ABC2-7F0E8EBB8D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69BA3-A4D5-47CE-8BD7-97219BC0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E878A-3C6F-4E74-BF7D-A31C995D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B1553-6005-4E6C-9D1E-BD6FC6F1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125A0-F413-4CAE-8137-7A39154F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AD19C-DC08-44C1-A0AA-3F2BA4F7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A2509-D9F1-4EE6-8646-0DC32F47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1F3CF-2EF4-477A-9B37-01E44678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D9E1E-0BD6-4F32-ABC0-52D5E031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9A372-3AAC-4C3B-9B3B-06559813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7BF40-DDD8-48EB-9158-C534CF4E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D4E74-B2A2-4C88-8BEE-F5CFB79E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28AB3-BEF9-4693-9B06-7C1416CFDF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D1C77-5EB0-448D-8363-4F9A58FCF2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35BF52-BC10-4ED6-A3A6-34409FB4D2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3376F7-692E-4D28-B5EC-28C7F6DE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290845-5AAC-45A7-9ADC-C7FDE7A0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82CBE1-5A33-4937-8875-2CB81A5C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9C878E-957B-433A-89FA-2F8A9062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9ADBBD-E7F5-4AA8-A3D1-ABE4B144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74F56D-B47C-4512-A1A8-3E3684B7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5F215D-7B5A-4CB1-ADCB-9150318B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038B64-A448-4CD1-A98F-A38BE723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A2573-8261-4656-915C-D14F68A2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72D0DC-71CA-42E2-B555-2FD3186B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339681-B596-4CE7-BC28-A6AE919F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E2040B-4E06-494D-82CE-CF29F07B9D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3641DF-52E1-4947-82AB-803C240EAE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6DA632-D122-48DF-BE8B-E06C55BD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5BAAE-63CB-45A6-9739-5902077A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526A5-81D7-4FD5-91F9-BA91D4DC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4B1709-87E7-4F17-9101-48F6C192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DB08D6-D25C-4E18-9050-7BDC1824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65D2D-E300-47F3-87B0-D3A7CB71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1BD27-9EA2-4C9E-8DB1-A7998B3C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766CF-82C1-4DAE-ABE1-F2243B4F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02989C-03E0-4F2C-B92D-E340FE82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647FE0-392D-4335-8230-2DD553E4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AB870C-F12F-4076-B753-E4BEDA24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CF3DF-288F-40C9-8DF5-E0E80E7B6C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BBA24-58AB-404C-AE53-58CD2D79E2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400C7-547B-4544-A1D2-A82BF2CD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E4723-448A-4E92-9CD9-8127986E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75A6D-7F85-42E2-A8CB-8041AC30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6454B-B84B-4805-A7B4-E0F61C68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022E6-F635-498D-82A9-2157384E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2CE8E-5D45-403F-9998-2EA60275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EFDD4-5FA6-4060-8956-5715AEE2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AEB4B-498E-47B1-90A2-43402577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3A834-3663-454D-8E32-4F86B615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A118D-CCC8-4B6A-99C7-DF158AC1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50911-B502-4B76-AE2E-DFA66B93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0420C-0CD6-47F7-8227-43D90F36A6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CB732-BD31-45C7-BA8B-2A04041D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93185-D4C5-47A6-AD5C-74F05071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D0A4E-443C-4671-8303-53E23574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A48CA-03D1-417B-943A-7852CDBB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EF192-081E-43D5-94FD-94BF1B3A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4305D-6CCF-4E02-A79E-1142A2D5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E8AAC-3563-4EA7-8A12-F505CFA2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03D5E-C792-4A5A-B01E-8E918E36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995D6-3674-4DAB-93FA-3DD3348B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AC81E-D7BB-442B-AA3B-D7075856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A832C-4086-4195-AEAF-DAED7431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CFCD4-B37A-4018-B54B-12D51D50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899BC-7D7C-4279-BD80-B40B223D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CCF54-01CF-4C67-88AF-27F350BE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9F4E7-F772-4CBF-91E5-3D025236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3E307-2858-4161-9A77-AA857EFF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7ED1D-51E4-440E-8596-AB166AE5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DC49A-40AB-4093-AF25-33C3778E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8D5F6-0933-4518-8AEF-C4D1FBCA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32AF5-2D4A-42EB-9C0D-20CD8953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DD54B-E222-434B-BE2F-4D8054E2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76561-54D5-4F85-ABB0-8CD57628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77670-3970-46AD-ACB4-ECFEB128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3C5D7-EC1F-4184-9A30-15D4F473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14AD5-DE87-45F8-A6AF-28914208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64DEF-F82F-4E41-BD1D-AE9FD6E6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DEABF-A5CB-4869-B9CB-F9ED0DED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F1F0B-5090-40AF-B3BF-39ABE5EC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DE78A-61F9-4360-B186-B5DA440A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A77C8-FDB6-4F20-8D67-1B8ED2FB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FE509-4458-4A71-AEC6-78E05A31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FDA3A-08FB-4481-BDE9-5FE51124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9E1F2-CD12-423D-9F68-8AD9903F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9BF66-1FDE-4D03-ACF0-87E8CA20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2D70D-ECA3-432E-8288-898CF0DF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4B8BD-271B-4BE5-BF21-B2E47B39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65701-FC63-46F4-B2F5-0B7DCC5C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6A59F-8588-4596-9D76-C80A4B25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5E091-2D39-4E2F-947A-DD1E991F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E1145-20A9-4618-9BB2-860EEE61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9C95FF-B971-4B86-AADF-DFDE39A5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532C57-2233-4A40-8B9D-2B3E700C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6C114-F6C5-4942-8181-0191BD8F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93231-FC82-477A-9D91-90D9507C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9E9DC-DA36-497E-81BC-47AB1FA1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F39FF-FCD5-40C4-BAE1-5626AC42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6F8F31-1ACF-4537-9AA7-98153B54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C615D-C81C-4F5D-92EE-0BC8AD5B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93AE3-57E6-4721-858E-2FE1BDD5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FDAF3-85B9-4192-9A71-FFB17F11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16241-D8D8-4B41-8245-D2ECAC19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70671-A620-4789-8D7F-4A5DF3F9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359B4-6CE8-4097-806D-7E260A3F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038DC-C271-4648-9230-595E044D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599CAD-72F1-405F-B146-3B7CDBD9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1F00F0-5935-4FF0-AAF2-C89155AC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7E06D0-F34B-45C8-8B84-3D6781AB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1D53FA-60FF-4EF3-9915-CC501B21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EADA04-C729-490F-8A33-B3A01E1D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01238-A03D-4C4A-B934-30B0EB70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5BF4F9-47A1-4AF4-8DFB-C3F3B3FC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7D37C-2918-43E7-8335-571BD80E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CD6B48-0558-4B8F-9E6F-AF077342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E341B-678F-45DB-9E6A-D2398EE0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045542-8DCC-4B1F-AFF4-5B679BA7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13B31-8943-4810-A9D4-F08111AE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4E4D95-3788-4B10-B39C-A6BD0F65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9C4B71-064C-4EC4-9778-88EB2D33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45D911-608D-46FD-9635-A70A76E2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10847-78D2-4F83-BE6E-95614F4A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99C03-307E-4EDE-835C-10F42565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F5E988-B403-477F-AEFA-CEDB9B7D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2A70D7-0145-48CC-9679-707CB1C7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8F13C-8C77-4B66-BCDB-9A5E28C9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E65BC9-1761-4462-B622-DBDA5BD2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17A487-A03B-4975-A208-60047111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E97A4D-C518-4892-A53D-E4CDA48E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55DE70-F43B-4018-83B8-C9B66885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36BDF2-C91F-4227-B4D2-B1F36CD1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6E7F86-D738-4B13-A55E-A8934DD1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6CFFCF-193A-4726-9CEC-BF408E24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21C83-4CF0-4746-9FBF-771038FB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0E8410-0A2E-4BB0-8921-D17F3AF2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822DF1-FA9D-4BC6-8B72-EE21B62C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239FFD-F669-4326-9E5E-EE54FA29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E40910-1EEF-4C95-91BD-8A10064A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74901A-D446-43E6-B47F-84098492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75B4DB-3622-481E-BF3F-58E4BB3F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165D0A-0F8A-4C1D-94A3-372C2B29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EA6B1A-682F-446F-8DED-0ADDC957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B8912D-F995-4F48-B7DA-1EC7B6E9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A7CDD1-DA7A-401C-8BBB-ED86F2EC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829CF-3A03-44D8-BB40-28D08C33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C94C77-3F76-4210-9D1E-85217E80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FD8E67-1610-4118-9655-C69A2074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16DF0C-7FF9-4015-AE6A-B36AC246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F08EC2-3952-4ADC-BFBF-5B59CF95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C38FC8-59F1-41C0-B05F-FBD16C10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8D80E9-5C65-40EF-BD77-9014E269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1AA799-A8E1-4BC5-B098-3B2E0BF6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8DB042-E065-444E-930E-4C19FF8F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4CF1BA-8D4F-46C2-A433-B2A8084E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6677CC-593C-4D0B-8FED-47ECE0CE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419BAE-2744-4A65-A37F-9DA3EF09F9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9044B6-8EBF-40B8-9EC0-946E41C8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43E4AD-DAC5-4BE4-9A07-8300EEA0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DCD485-3F00-4A9F-8A1F-813B7390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1C5410-72A0-4376-8EAF-19552793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FE3B24-6012-411E-AFCE-91D58ED1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E85B16-52C2-403A-8762-F420218B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791866-E29B-46F0-834E-12EA1B24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85FC33-03CC-47EE-97CD-7ABDFBAA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BC89B3-576F-4A35-9B38-05D3126A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E1F8A3-5104-40BE-844A-AF35767E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EBFD0F-A86B-45ED-8397-2D1D5A2B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1ECF49-74C4-4024-A04E-922C0259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B8BEBD-4237-497D-975F-24B76B27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DFBD84-EDB7-4765-9696-238BDC88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3CD35E-DCDB-4BB6-80F2-1B123D25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B8F240-778E-4F53-9DD0-8A41308C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B27418-DF0D-4648-8E2E-276A107E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E909F6-4D50-4E91-8894-21E25759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8B4A09-0789-48AB-83EA-7EC1E1F9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368428-34C9-4642-B123-8EAC2A70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093D9A-0335-4FB4-A3E3-83766103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AD0EB5-03B1-49B3-8EDE-F62B2EB8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8FA8D0-654A-4A43-9442-55C914E5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930FF8-74A8-4CA1-85C8-86EF0374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A6F54A-683F-43EF-8AFA-976A2769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2580BE-20AD-4FC3-9743-451EF354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D7173B-52F3-45E9-9AA5-94EF5E1E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FF72F1-4AAB-4472-9B35-28BC4837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F106B0-971B-4E07-B4C5-CFEC2289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453A7F-ED45-4275-86D6-24AC8D3E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A396B0-FC8F-49EC-8987-2C08146F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675A97-E991-4443-8D97-C5C0C237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1C2593-7FFC-493E-BE04-D9DF4650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7E187B-19C5-4496-8716-DE0DE319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75F024-4A54-46BE-BE34-0635545E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5D8E23-5BBE-46ED-930A-064F26AE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9E18D9-8067-4E5C-ADD8-943B2E05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81A627-189C-4462-9626-A613CA1D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5FA8BA-D3B8-4A8D-AC15-5D1320D3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512F62-4F9B-4B08-A798-EB369DBD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66220D-B558-438E-B364-0E09D2CF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196E2C-4AD3-4456-9169-6B8B3BC2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2CFF57-6FE5-4859-8CBB-ED5E04A0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58B1A-A60D-4A6A-AD08-ED1C05AC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501CA8-D163-4C74-B5FB-26DC7F3E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EBDDD2-BB37-4610-9A80-6C60D634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2475FA-0865-4485-B595-EBB8FDF6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5DAFA3-1E5F-4080-9693-3ACA3E96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5B072D-D76C-46C2-9C42-018A9FF6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9EE408-8D0C-4460-BE9C-71038F1C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7E605D-9AF2-4560-9E08-46275B2268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CA4A3-107F-454B-B368-0BAEBC0CA4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622D7-C59E-42E0-BC38-21B61C68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5778B-CA91-4CC3-A103-9DFD14D2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32507-9644-46A4-81D5-2FCF7EAD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3B2F7-59DA-4F08-B277-E51BBF6A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72C3E-5154-4536-B8C5-086EEE4B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712CB-2E36-41AC-8CF0-D1C31A40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B437D-3EBF-4681-AEE4-5D8741A3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453D1-FCA0-4187-BDC9-424B8022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9F16B-E3A3-487F-8073-A0F5B60F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A4985-2DD3-4340-8710-5CD49E49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635EE-2F0B-4E58-91FF-1350A982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73D51-22BC-4FA0-98C7-FB75E8C634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BCDF3B-5C9C-4023-BC59-E799625A25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F0A96-5C02-4143-9EA2-305EEB39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239B59-D40C-4536-9C21-5B407889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EA82E4-91F9-498E-9E7F-B4A94AE4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102F31-2596-42C8-810D-0E2D06BA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CB31E4-009A-4E20-ACAF-9DC96099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A6DDC9-F175-4417-B72D-D344712B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5BD347-063F-434A-9D92-77EF65C2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AE7AB8-4FAE-460B-B8E1-F9A68C09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090FF3-F6C4-48A5-AD9B-17081F1A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2561C2-2ECB-4858-8D12-AF1626CB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24035E-6AB2-4F27-B9F0-B62860EB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7E68C-6FFE-4D10-A45E-3E793D13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3F2829-650F-40E5-BEBE-606FB91C5C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932F1F-FA63-4100-A34E-D39866E86A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164316-2DE4-418D-A303-CECEFE15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BD265B-97D2-410E-8FB4-3AAE7B38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D269B9-3138-4362-9455-98FF2D22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201491-1A31-4109-8255-D96BD2BD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026A28-0D46-4448-A24A-F1C7AB72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54215A-FD53-4908-AD29-028BCD47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DCAB35-56A6-47F9-BE54-26AA7774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17BDF5-9921-4C1F-B594-6919348D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BB646-60BB-4E32-86D7-EC450235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714CD4-6C04-44FA-B032-9BCC3825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B41C48-5BEF-4F30-B649-41774156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40768A-72E0-42AA-9112-4100E652FD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65C76-75C1-4F5E-A7CC-E26333B157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DD1BD-7A08-4CD9-9D8E-8AA06631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AB2F7-0858-40A7-8DE2-1FB19135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D2EAB-0879-4844-9357-A480FB4D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DFEFF-6822-4964-A2A8-EDFECE03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8EE1F-526A-475B-BC7F-7C8932CB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7ABEC-41D4-43D3-AA50-622FD981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1E521-8AB5-469B-B23B-E4A43839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D7929-2B37-46A8-ACCB-01A81BB0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3D24C-92E8-45DB-A827-CC570628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B4C72-E353-46BD-ACF3-EBEB76AD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B7DDD-0BB7-4DEA-BD19-A9CB68DE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4937D-B9B1-47E7-B0A1-01D3AD0C16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2201FA-3FB0-43D0-A50D-CCCBB0CBEF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3BC1FF-6BD5-4E34-9C18-901097A2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FC3333-3B64-4B4C-B5AA-87946106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E97982-7E0C-48A4-8192-69DBED1A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B3D60D-3293-4196-AC72-7B210EBC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BF0C4-D6D8-4C59-B070-67CCD2E1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06B10A-E778-4953-8727-F6E5F362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DFC526-AE13-4E91-B073-1FD5D160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E32D4-E581-4754-B536-D77511ED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AF2E90-A862-4D8B-BF1B-C759C558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9F45C0-C261-477E-9958-8E3D02EA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45C802-B43B-4B80-AA56-A4546756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92BEDE-0AAC-4FE8-894D-2DFD824AB3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7FB666-DBAA-4B80-A4EF-291EEE9BA6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A239C4-66AA-4B49-BD2E-9E1DCBE8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71A8C8-83BE-4B5B-8E86-D3D65E07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CA20-23C4-4360-A6CE-7BFED148352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F03A-FD51-4775-9033-88726E3062F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FAB2-BAA4-42F1-8E1E-DB6E602ADFE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F0F4-6BB3-4981-9BEC-C4929B93323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5C37-2394-4012-9899-59F369203BA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455D-CF1D-42C6-829D-A2325D8C315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1DE1-ED79-441F-A92F-7D5FC478734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0207-0C90-44C8-B3F9-DC43CD8AE3E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42A8-4E91-4367-BF41-CA513E84A34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B1BC-BBF5-43F4-B69C-02B43912D5A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6CA9-5AFC-4A23-9B9C-5AF73A4EC3D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C341-0481-4F55-86D1-FDDCE61BFE2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8F0B-96C1-4915-B089-80BB4CB5516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46E4-1379-4A6B-B410-6B6FE3C9478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A6AA-0864-4747-BD6F-8E6B6A167E1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7D92-D255-4F08-BE45-2D5B6F04358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644A-0AED-4317-9B79-CED1FF12481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ED23-57B6-4CC7-9802-E7A6AD5A2EB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057D-B9CE-4877-848C-5AFC0C4A76B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60A6-6AEF-4D0A-9705-8FD4CF6A93E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2ABC-CC7F-4EFD-A851-A2FA5140310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3E79-7424-495B-B920-DCBEAAF1569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A285-3E9C-458C-BE11-D82052D0745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0904-EAAD-4526-870B-F49ADF7FFF5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4475160" cy="360"/>
            <a:chOff x="2284560" y="2448000"/>
            <a:chExt cx="447516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447516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447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9"/>
          <p:cNvSpPr/>
          <p:nvPr/>
        </p:nvSpPr>
        <p:spPr>
          <a:xfrm>
            <a:off x="-1163520" y="1744560"/>
            <a:ext cx="88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位数乘一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5"/>
          <p:cNvSpPr/>
          <p:nvPr/>
        </p:nvSpPr>
        <p:spPr>
          <a:xfrm>
            <a:off x="1822320" y="2716200"/>
            <a:ext cx="55908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6"/>
          <p:cNvSpPr/>
          <p:nvPr/>
        </p:nvSpPr>
        <p:spPr>
          <a:xfrm>
            <a:off x="1281240" y="2666880"/>
            <a:ext cx="71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笔 算 乘 法（不 连 续 进 位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组合 2"/>
          <p:cNvGrpSpPr/>
          <p:nvPr/>
        </p:nvGrpSpPr>
        <p:grpSpPr>
          <a:xfrm>
            <a:off x="0" y="174600"/>
            <a:ext cx="3255840" cy="525600"/>
            <a:chOff x="0" y="174600"/>
            <a:chExt cx="3255840" cy="525600"/>
          </a:xfrm>
        </p:grpSpPr>
        <p:pic>
          <p:nvPicPr>
            <p:cNvPr id="122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60920" y="174600"/>
              <a:ext cx="30949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8" name="组合 4"/>
            <p:cNvGrpSpPr/>
            <p:nvPr/>
          </p:nvGrpSpPr>
          <p:grpSpPr>
            <a:xfrm>
              <a:off x="0" y="218880"/>
              <a:ext cx="430200" cy="271800"/>
              <a:chOff x="0" y="218880"/>
              <a:chExt cx="430200" cy="271800"/>
            </a:xfrm>
          </p:grpSpPr>
          <p:sp>
            <p:nvSpPr>
              <p:cNvPr id="1229" name="椭圆 1"/>
              <p:cNvSpPr/>
              <p:nvPr/>
            </p:nvSpPr>
            <p:spPr>
              <a:xfrm rot="16200000">
                <a:off x="243000" y="3816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0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4524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椭圆 29"/>
              <p:cNvSpPr/>
              <p:nvPr/>
            </p:nvSpPr>
            <p:spPr>
              <a:xfrm rot="16200000">
                <a:off x="243000" y="2556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3328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6144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336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4660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1888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37" name="文本框 99"/>
          <p:cNvSpPr/>
          <p:nvPr/>
        </p:nvSpPr>
        <p:spPr>
          <a:xfrm>
            <a:off x="293760" y="976320"/>
            <a:ext cx="8231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一个电饭煲的价钱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1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，一台洗衣机的价钱是电饭煲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买一台洗衣机需要多少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文本框 2"/>
          <p:cNvSpPr/>
          <p:nvPr/>
        </p:nvSpPr>
        <p:spPr>
          <a:xfrm>
            <a:off x="1378080" y="2558880"/>
            <a:ext cx="366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1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=86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文本框 3"/>
          <p:cNvSpPr/>
          <p:nvPr/>
        </p:nvSpPr>
        <p:spPr>
          <a:xfrm>
            <a:off x="863640" y="3503520"/>
            <a:ext cx="62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买一台洗衣机需要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6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元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301920" cy="525600"/>
            <a:chOff x="0" y="101520"/>
            <a:chExt cx="330192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247320" y="101520"/>
              <a:ext cx="30546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7280"/>
              <a:ext cx="666720" cy="271800"/>
              <a:chOff x="0" y="197280"/>
              <a:chExt cx="666720" cy="271800"/>
            </a:xfrm>
          </p:grpSpPr>
          <p:sp>
            <p:nvSpPr>
              <p:cNvPr id="1001" name="椭圆 1"/>
              <p:cNvSpPr/>
              <p:nvPr/>
            </p:nvSpPr>
            <p:spPr>
              <a:xfrm rot="16200000">
                <a:off x="276120" y="349560"/>
                <a:ext cx="104760" cy="133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29840" y="284040"/>
                <a:ext cx="236880" cy="7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76120" y="214920"/>
                <a:ext cx="104760" cy="133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429840" y="207000"/>
                <a:ext cx="236880" cy="7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5200"/>
                <a:ext cx="589680" cy="6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76120"/>
                <a:ext cx="589680" cy="6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6360"/>
                <a:ext cx="589680" cy="6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589680" cy="6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3"/>
          <p:cNvSpPr/>
          <p:nvPr/>
        </p:nvSpPr>
        <p:spPr>
          <a:xfrm>
            <a:off x="431640" y="957240"/>
            <a:ext cx="7572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口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×7=        6×4=         9×3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0×4=       300×3=       30×8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×3+2=      2×4+1=       1×2+5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51"/>
          <p:cNvSpPr/>
          <p:nvPr/>
        </p:nvSpPr>
        <p:spPr>
          <a:xfrm>
            <a:off x="1693800" y="174456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51"/>
          <p:cNvSpPr/>
          <p:nvPr/>
        </p:nvSpPr>
        <p:spPr>
          <a:xfrm>
            <a:off x="3824280" y="167148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51"/>
          <p:cNvSpPr/>
          <p:nvPr/>
        </p:nvSpPr>
        <p:spPr>
          <a:xfrm>
            <a:off x="6041880" y="159696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51"/>
          <p:cNvSpPr/>
          <p:nvPr/>
        </p:nvSpPr>
        <p:spPr>
          <a:xfrm>
            <a:off x="1860480" y="230832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51"/>
          <p:cNvSpPr/>
          <p:nvPr/>
        </p:nvSpPr>
        <p:spPr>
          <a:xfrm>
            <a:off x="4140360" y="2222640"/>
            <a:ext cx="785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51"/>
          <p:cNvSpPr/>
          <p:nvPr/>
        </p:nvSpPr>
        <p:spPr>
          <a:xfrm>
            <a:off x="6192720" y="2222640"/>
            <a:ext cx="135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51"/>
          <p:cNvSpPr/>
          <p:nvPr/>
        </p:nvSpPr>
        <p:spPr>
          <a:xfrm>
            <a:off x="2035080" y="285768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51"/>
          <p:cNvSpPr/>
          <p:nvPr/>
        </p:nvSpPr>
        <p:spPr>
          <a:xfrm>
            <a:off x="4178160" y="278604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51"/>
          <p:cNvSpPr/>
          <p:nvPr/>
        </p:nvSpPr>
        <p:spPr>
          <a:xfrm>
            <a:off x="6413400" y="278604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组合 2"/>
          <p:cNvGrpSpPr/>
          <p:nvPr/>
        </p:nvGrpSpPr>
        <p:grpSpPr>
          <a:xfrm>
            <a:off x="-23760" y="101520"/>
            <a:ext cx="2374920" cy="525600"/>
            <a:chOff x="-23760" y="101520"/>
            <a:chExt cx="2374920" cy="525600"/>
          </a:xfrm>
        </p:grpSpPr>
        <p:pic>
          <p:nvPicPr>
            <p:cNvPr id="102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78840" y="101520"/>
              <a:ext cx="2272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1" name="组合 4"/>
            <p:cNvGrpSpPr/>
            <p:nvPr/>
          </p:nvGrpSpPr>
          <p:grpSpPr>
            <a:xfrm>
              <a:off x="-23760" y="197280"/>
              <a:ext cx="312120" cy="272160"/>
              <a:chOff x="-23760" y="197280"/>
              <a:chExt cx="312120" cy="272160"/>
            </a:xfrm>
          </p:grpSpPr>
          <p:sp>
            <p:nvSpPr>
              <p:cNvPr id="1022" name="椭圆 1"/>
              <p:cNvSpPr/>
              <p:nvPr/>
            </p:nvSpPr>
            <p:spPr>
              <a:xfrm rot="16200000">
                <a:off x="194400" y="341640"/>
                <a:ext cx="81000" cy="106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3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97920" y="339480"/>
                <a:ext cx="18828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4" name="椭圆 29"/>
              <p:cNvSpPr/>
              <p:nvPr/>
            </p:nvSpPr>
            <p:spPr>
              <a:xfrm rot="16200000">
                <a:off x="194400" y="237600"/>
                <a:ext cx="81000" cy="106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97920" y="213480"/>
                <a:ext cx="18828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357840"/>
                <a:ext cx="24300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326160"/>
                <a:ext cx="24300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228600"/>
                <a:ext cx="24300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97280"/>
                <a:ext cx="243000" cy="11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30" name="Picture 2" descr="D:\我的文档-桌面-收藏夹\桌面\Redocn_2013010918452886副本.png"/>
          <p:cNvPicPr/>
          <p:nvPr/>
        </p:nvPicPr>
        <p:blipFill>
          <a:blip r:embed="rId8"/>
          <a:stretch/>
        </p:blipFill>
        <p:spPr>
          <a:xfrm>
            <a:off x="2071800" y="500040"/>
            <a:ext cx="1998720" cy="1998720"/>
          </a:xfrm>
          <a:prstGeom prst="rect">
            <a:avLst/>
          </a:prstGeom>
          <a:ln w="0">
            <a:noFill/>
          </a:ln>
        </p:spPr>
      </p:pic>
      <p:sp>
        <p:nvSpPr>
          <p:cNvPr id="1031" name="AutoShape 27"/>
          <p:cNvSpPr/>
          <p:nvPr/>
        </p:nvSpPr>
        <p:spPr>
          <a:xfrm>
            <a:off x="4376880" y="642960"/>
            <a:ext cx="1500120" cy="714240"/>
          </a:xfrm>
          <a:prstGeom prst="wedgeRoundRectCallout">
            <a:avLst>
              <a:gd name="adj1" fmla="val -61175"/>
              <a:gd name="adj2" fmla="val 4760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宋体"/>
                <a:ea typeface="宋体"/>
              </a:rPr>
              <a:t>我买</a:t>
            </a:r>
            <a:r>
              <a:rPr b="0" lang="en-US" sz="2400" spc="-1" strike="noStrike">
                <a:solidFill>
                  <a:srgbClr val="1c1c1c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1c1c1c"/>
                </a:solidFill>
                <a:latin typeface="宋体"/>
                <a:ea typeface="宋体"/>
              </a:rPr>
              <a:t>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Picture 3" descr="D:\我的文档-桌面-收藏夹\桌面\图片1副本.png"/>
          <p:cNvPicPr/>
          <p:nvPr/>
        </p:nvPicPr>
        <p:blipFill>
          <a:blip r:embed="rId9"/>
          <a:stretch/>
        </p:blipFill>
        <p:spPr>
          <a:xfrm>
            <a:off x="3662280" y="1455840"/>
            <a:ext cx="728640" cy="728640"/>
          </a:xfrm>
          <a:prstGeom prst="rect">
            <a:avLst/>
          </a:prstGeom>
          <a:ln w="0">
            <a:noFill/>
          </a:ln>
        </p:spPr>
      </p:pic>
      <p:sp>
        <p:nvSpPr>
          <p:cNvPr id="1033" name="TextBox 5"/>
          <p:cNvSpPr/>
          <p:nvPr/>
        </p:nvSpPr>
        <p:spPr>
          <a:xfrm>
            <a:off x="574560" y="2352600"/>
            <a:ext cx="8455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套连环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，王老师一共买了多少本连环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51"/>
          <p:cNvSpPr/>
          <p:nvPr/>
        </p:nvSpPr>
        <p:spPr>
          <a:xfrm>
            <a:off x="1990800" y="3070080"/>
            <a:ext cx="2508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51"/>
          <p:cNvSpPr/>
          <p:nvPr/>
        </p:nvSpPr>
        <p:spPr>
          <a:xfrm>
            <a:off x="3220920" y="2998800"/>
            <a:ext cx="714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6" name="Picture 29" descr=""/>
          <p:cNvPicPr/>
          <p:nvPr/>
        </p:nvPicPr>
        <p:blipFill>
          <a:blip r:embed="rId10"/>
          <a:stretch/>
        </p:blipFill>
        <p:spPr>
          <a:xfrm>
            <a:off x="1093680" y="3643200"/>
            <a:ext cx="1258920" cy="1871640"/>
          </a:xfrm>
          <a:prstGeom prst="rect">
            <a:avLst/>
          </a:prstGeom>
          <a:ln w="0">
            <a:noFill/>
          </a:ln>
        </p:spPr>
      </p:pic>
      <p:sp>
        <p:nvSpPr>
          <p:cNvPr id="1037" name="AutoShape 97"/>
          <p:cNvSpPr/>
          <p:nvPr/>
        </p:nvSpPr>
        <p:spPr>
          <a:xfrm>
            <a:off x="5916600" y="4513320"/>
            <a:ext cx="504720" cy="369720"/>
          </a:xfrm>
          <a:prstGeom prst="rightArrow">
            <a:avLst>
              <a:gd name="adj1" fmla="val 50000"/>
              <a:gd name="adj2" fmla="val 34053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40"/>
          <p:cNvGrpSpPr/>
          <p:nvPr/>
        </p:nvGrpSpPr>
        <p:grpSpPr>
          <a:xfrm>
            <a:off x="6553440" y="3792600"/>
            <a:ext cx="958680" cy="1236600"/>
            <a:chOff x="6553440" y="3792600"/>
            <a:chExt cx="958680" cy="1236600"/>
          </a:xfrm>
        </p:grpSpPr>
        <p:sp>
          <p:nvSpPr>
            <p:cNvPr id="1039" name="Rectangle 29"/>
            <p:cNvSpPr/>
            <p:nvPr/>
          </p:nvSpPr>
          <p:spPr>
            <a:xfrm>
              <a:off x="6553440" y="3792600"/>
              <a:ext cx="87264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500"/>
              </a:b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×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 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32"/>
            <p:cNvSpPr/>
            <p:nvPr/>
          </p:nvSpPr>
          <p:spPr>
            <a:xfrm>
              <a:off x="6804000" y="3879360"/>
              <a:ext cx="708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1 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 Box 33"/>
            <p:cNvSpPr/>
            <p:nvPr/>
          </p:nvSpPr>
          <p:spPr>
            <a:xfrm>
              <a:off x="6999120" y="442656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6605640" y="4654800"/>
              <a:ext cx="815760" cy="360"/>
              <a:chOff x="6605640" y="4654800"/>
              <a:chExt cx="815760" cy="360"/>
            </a:xfrm>
          </p:grpSpPr>
          <p:sp>
            <p:nvSpPr>
              <p:cNvPr id="1043" name="Line 30"/>
              <p:cNvSpPr/>
              <p:nvPr/>
            </p:nvSpPr>
            <p:spPr>
              <a:xfrm>
                <a:off x="6605640" y="4654800"/>
                <a:ext cx="81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 txBox="1"/>
              <p:nvPr/>
            </p:nvSpPr>
            <p:spPr>
              <a:xfrm>
                <a:off x="6605640" y="4654800"/>
                <a:ext cx="81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5" name="Oval 98"/>
          <p:cNvSpPr/>
          <p:nvPr/>
        </p:nvSpPr>
        <p:spPr>
          <a:xfrm>
            <a:off x="998640" y="5033880"/>
            <a:ext cx="528480" cy="5050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组合 29"/>
          <p:cNvGrpSpPr/>
          <p:nvPr/>
        </p:nvGrpSpPr>
        <p:grpSpPr>
          <a:xfrm>
            <a:off x="2941560" y="3579840"/>
            <a:ext cx="2772000" cy="1998360"/>
            <a:chOff x="2941560" y="3579840"/>
            <a:chExt cx="2772000" cy="1998360"/>
          </a:xfrm>
        </p:grpSpPr>
        <p:sp>
          <p:nvSpPr>
            <p:cNvPr id="1047" name="Text Box 89"/>
            <p:cNvSpPr/>
            <p:nvPr/>
          </p:nvSpPr>
          <p:spPr>
            <a:xfrm>
              <a:off x="3760560" y="4309920"/>
              <a:ext cx="17290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6×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90"/>
            <p:cNvSpPr/>
            <p:nvPr/>
          </p:nvSpPr>
          <p:spPr>
            <a:xfrm>
              <a:off x="3784680" y="4776120"/>
              <a:ext cx="18576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……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9" name="Group 38"/>
            <p:cNvGrpSpPr/>
            <p:nvPr/>
          </p:nvGrpSpPr>
          <p:grpSpPr>
            <a:xfrm>
              <a:off x="2941560" y="3579840"/>
              <a:ext cx="1503360" cy="1998360"/>
              <a:chOff x="2941560" y="3579840"/>
              <a:chExt cx="1503360" cy="1998360"/>
            </a:xfrm>
          </p:grpSpPr>
          <p:sp>
            <p:nvSpPr>
              <p:cNvPr id="1050" name="Rectangle 23"/>
              <p:cNvSpPr/>
              <p:nvPr/>
            </p:nvSpPr>
            <p:spPr>
              <a:xfrm>
                <a:off x="3160800" y="3579840"/>
                <a:ext cx="1284120" cy="19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500"/>
                </a:b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×</a:t>
                </a:r>
                <a:r>
                  <a:rPr b="0" lang="en-US" sz="2500" spc="-1" strike="noStrike">
                    <a:solidFill>
                      <a:srgbClr val="1c1c1c"/>
                    </a:solidFill>
                    <a:latin typeface="宋体"/>
                  </a:rPr>
                  <a:t>   3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1c1c1c"/>
                    </a:solidFill>
                    <a:latin typeface="宋体"/>
                  </a:rPr>
                  <a:t>  </a:t>
                </a:r>
                <a:r>
                  <a:rPr b="0" lang="en-US" sz="2500" spc="-1" strike="noStrike">
                    <a:solidFill>
                      <a:srgbClr val="1c1c1c"/>
                    </a:solidFill>
                    <a:latin typeface="宋体"/>
                  </a:rPr>
                  <a:t>1  8     </a:t>
                </a:r>
                <a:br>
                  <a:rPr sz="2500"/>
                </a:br>
                <a:r>
                  <a:rPr b="0" lang="en-US" sz="2500" spc="-1" strike="noStrike">
                    <a:solidFill>
                      <a:srgbClr val="1c1c1c"/>
                    </a:solidFill>
                    <a:latin typeface="宋体"/>
                  </a:rPr>
                  <a:t>  3 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0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 </a:t>
                </a:r>
                <a:br>
                  <a:rPr sz="2500"/>
                </a:br>
                <a:r>
                  <a:rPr b="0" lang="en-US" sz="2500" spc="-1" strike="noStrike">
                    <a:solidFill>
                      <a:srgbClr val="1c1c1c"/>
                    </a:solidFill>
                    <a:latin typeface="宋体"/>
                  </a:rPr>
                  <a:t>  4  8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1" name=""/>
              <p:cNvGrpSpPr/>
              <p:nvPr/>
            </p:nvGrpSpPr>
            <p:grpSpPr>
              <a:xfrm>
                <a:off x="2944800" y="4389480"/>
                <a:ext cx="863640" cy="360"/>
                <a:chOff x="2944800" y="4389480"/>
                <a:chExt cx="863640" cy="360"/>
              </a:xfrm>
            </p:grpSpPr>
            <p:sp>
              <p:nvSpPr>
                <p:cNvPr id="1052" name="Line 24"/>
                <p:cNvSpPr/>
                <p:nvPr/>
              </p:nvSpPr>
              <p:spPr>
                <a:xfrm>
                  <a:off x="2944800" y="4389480"/>
                  <a:ext cx="863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 txBox="1"/>
                <p:nvPr/>
              </p:nvSpPr>
              <p:spPr>
                <a:xfrm>
                  <a:off x="2944800" y="4389480"/>
                  <a:ext cx="863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2941560" y="5110200"/>
                <a:ext cx="863640" cy="360"/>
                <a:chOff x="2941560" y="5110200"/>
                <a:chExt cx="863640" cy="360"/>
              </a:xfrm>
            </p:grpSpPr>
            <p:sp>
              <p:nvSpPr>
                <p:cNvPr id="1055" name="Line 25"/>
                <p:cNvSpPr/>
                <p:nvPr/>
              </p:nvSpPr>
              <p:spPr>
                <a:xfrm>
                  <a:off x="2941560" y="5110200"/>
                  <a:ext cx="863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 txBox="1"/>
                <p:nvPr/>
              </p:nvSpPr>
              <p:spPr>
                <a:xfrm>
                  <a:off x="2941560" y="5110200"/>
                  <a:ext cx="863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Rectangle 26"/>
              <p:cNvSpPr/>
              <p:nvPr/>
            </p:nvSpPr>
            <p:spPr>
              <a:xfrm>
                <a:off x="3219480" y="3640320"/>
                <a:ext cx="7081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1  6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8" name="矩形 25"/>
            <p:cNvSpPr/>
            <p:nvPr/>
          </p:nvSpPr>
          <p:spPr>
            <a:xfrm>
              <a:off x="4498920" y="4824360"/>
              <a:ext cx="428400" cy="428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26"/>
            <p:cNvSpPr/>
            <p:nvPr/>
          </p:nvSpPr>
          <p:spPr>
            <a:xfrm>
              <a:off x="5285160" y="4824360"/>
              <a:ext cx="428400" cy="428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Rectangle 51"/>
          <p:cNvSpPr/>
          <p:nvPr/>
        </p:nvSpPr>
        <p:spPr>
          <a:xfrm>
            <a:off x="4427640" y="4753080"/>
            <a:ext cx="71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51"/>
          <p:cNvSpPr/>
          <p:nvPr/>
        </p:nvSpPr>
        <p:spPr>
          <a:xfrm>
            <a:off x="5284800" y="4753080"/>
            <a:ext cx="71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组合 40"/>
          <p:cNvGrpSpPr/>
          <p:nvPr/>
        </p:nvGrpSpPr>
        <p:grpSpPr>
          <a:xfrm>
            <a:off x="5427720" y="4824360"/>
            <a:ext cx="2440080" cy="1312920"/>
            <a:chOff x="5427720" y="4824360"/>
            <a:chExt cx="2440080" cy="1312920"/>
          </a:xfrm>
        </p:grpSpPr>
        <p:cxnSp>
          <p:nvCxnSpPr>
            <p:cNvPr id="1063" name="直接箭头连接符 31"/>
            <p:cNvCxnSpPr/>
            <p:nvPr/>
          </p:nvCxnSpPr>
          <p:spPr>
            <a:xfrm flipH="1">
              <a:off x="6473160" y="4824360"/>
              <a:ext cx="349200" cy="541440"/>
            </a:xfrm>
            <a:prstGeom prst="straightConnector1">
              <a:avLst/>
            </a:prstGeom>
            <a:ln w="9360">
              <a:solidFill>
                <a:srgbClr val="ff0000"/>
              </a:solidFill>
              <a:round/>
              <a:tailEnd len="med" type="arrow" w="med"/>
            </a:ln>
          </p:spPr>
        </p:cxnSp>
        <p:sp>
          <p:nvSpPr>
            <p:cNvPr id="1064" name="矩形标注 33"/>
            <p:cNvSpPr/>
            <p:nvPr/>
          </p:nvSpPr>
          <p:spPr>
            <a:xfrm>
              <a:off x="5427720" y="5442120"/>
              <a:ext cx="2440080" cy="695160"/>
            </a:xfrm>
            <a:prstGeom prst="wedgeRectCallout">
              <a:avLst>
                <a:gd name="adj1" fmla="val 53398"/>
                <a:gd name="adj2" fmla="val -80949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十位上的</a:t>
              </a:r>
              <a:r>
                <a:rPr b="0" lang="en-US" sz="2500" spc="-1" strike="noStrike">
                  <a:solidFill>
                    <a:srgbClr val="1c1c1c"/>
                  </a:solidFill>
                  <a:latin typeface="宋体"/>
                </a:rPr>
                <a:t>4</a:t>
              </a: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是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怎样得来的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5" name="组合 41"/>
          <p:cNvGrpSpPr/>
          <p:nvPr/>
        </p:nvGrpSpPr>
        <p:grpSpPr>
          <a:xfrm>
            <a:off x="2355840" y="5538960"/>
            <a:ext cx="2928600" cy="474840"/>
            <a:chOff x="2355840" y="5538960"/>
            <a:chExt cx="2928600" cy="474840"/>
          </a:xfrm>
        </p:grpSpPr>
        <p:cxnSp>
          <p:nvCxnSpPr>
            <p:cNvPr id="1066" name="直接箭头连接符 34"/>
            <p:cNvCxnSpPr/>
            <p:nvPr/>
          </p:nvCxnSpPr>
          <p:spPr>
            <a:xfrm flipH="1" flipV="1">
              <a:off x="4712760" y="5824800"/>
              <a:ext cx="572040" cy="2160"/>
            </a:xfrm>
            <a:prstGeom prst="straightConnector1">
              <a:avLst/>
            </a:prstGeom>
            <a:ln w="9360">
              <a:solidFill>
                <a:srgbClr val="ff0000"/>
              </a:solidFill>
              <a:round/>
              <a:tailEnd len="med" type="arrow" w="med"/>
            </a:ln>
          </p:spPr>
        </p:cxnSp>
        <p:sp>
          <p:nvSpPr>
            <p:cNvPr id="1067" name="Rectangle 51"/>
            <p:cNvSpPr/>
            <p:nvPr/>
          </p:nvSpPr>
          <p:spPr>
            <a:xfrm>
              <a:off x="2355840" y="5538960"/>
              <a:ext cx="2428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由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×3+1=4</a:t>
              </a: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得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8" name="八边形 2"/>
          <p:cNvSpPr/>
          <p:nvPr/>
        </p:nvSpPr>
        <p:spPr>
          <a:xfrm>
            <a:off x="433440" y="839880"/>
            <a:ext cx="514440" cy="51732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"/>
                            </p:stCondLst>
                            <p:childTnLst>
                              <p:par>
                                <p:cTn id="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组合 11"/>
          <p:cNvGrpSpPr/>
          <p:nvPr/>
        </p:nvGrpSpPr>
        <p:grpSpPr>
          <a:xfrm>
            <a:off x="857160" y="1352520"/>
            <a:ext cx="1285920" cy="1571760"/>
            <a:chOff x="857160" y="1352520"/>
            <a:chExt cx="1285920" cy="1571760"/>
          </a:xfrm>
        </p:grpSpPr>
        <p:sp>
          <p:nvSpPr>
            <p:cNvPr id="1070" name="TextBox 111"/>
            <p:cNvSpPr/>
            <p:nvPr/>
          </p:nvSpPr>
          <p:spPr>
            <a:xfrm>
              <a:off x="857160" y="1352520"/>
              <a:ext cx="12859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2 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× 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直接连接符 112"/>
            <p:cNvSpPr/>
            <p:nvPr/>
          </p:nvSpPr>
          <p:spPr>
            <a:xfrm>
              <a:off x="1071360" y="2567160"/>
              <a:ext cx="785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TextBox 113"/>
          <p:cNvSpPr/>
          <p:nvPr/>
        </p:nvSpPr>
        <p:spPr>
          <a:xfrm>
            <a:off x="500040" y="1352520"/>
            <a:ext cx="500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组合 11"/>
          <p:cNvGrpSpPr/>
          <p:nvPr/>
        </p:nvGrpSpPr>
        <p:grpSpPr>
          <a:xfrm>
            <a:off x="2714760" y="1352520"/>
            <a:ext cx="1285920" cy="1571760"/>
            <a:chOff x="2714760" y="1352520"/>
            <a:chExt cx="1285920" cy="1571760"/>
          </a:xfrm>
        </p:grpSpPr>
        <p:sp>
          <p:nvSpPr>
            <p:cNvPr id="1074" name="TextBox 115"/>
            <p:cNvSpPr/>
            <p:nvPr/>
          </p:nvSpPr>
          <p:spPr>
            <a:xfrm>
              <a:off x="2714760" y="1352520"/>
              <a:ext cx="12859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5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× 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直接连接符 116"/>
            <p:cNvSpPr/>
            <p:nvPr/>
          </p:nvSpPr>
          <p:spPr>
            <a:xfrm>
              <a:off x="2928960" y="2567160"/>
              <a:ext cx="785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Rectangle 51"/>
          <p:cNvSpPr/>
          <p:nvPr/>
        </p:nvSpPr>
        <p:spPr>
          <a:xfrm>
            <a:off x="1285920" y="251784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 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组合 11"/>
          <p:cNvGrpSpPr/>
          <p:nvPr/>
        </p:nvGrpSpPr>
        <p:grpSpPr>
          <a:xfrm>
            <a:off x="4429080" y="1352520"/>
            <a:ext cx="1928880" cy="1571760"/>
            <a:chOff x="4429080" y="1352520"/>
            <a:chExt cx="1928880" cy="1571760"/>
          </a:xfrm>
        </p:grpSpPr>
        <p:sp>
          <p:nvSpPr>
            <p:cNvPr id="1078" name="TextBox 119"/>
            <p:cNvSpPr/>
            <p:nvPr/>
          </p:nvSpPr>
          <p:spPr>
            <a:xfrm>
              <a:off x="4429080" y="1352520"/>
              <a:ext cx="192888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5 1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×   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直接连接符 120"/>
            <p:cNvSpPr/>
            <p:nvPr/>
          </p:nvSpPr>
          <p:spPr>
            <a:xfrm>
              <a:off x="4643280" y="25671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组合 11"/>
          <p:cNvGrpSpPr/>
          <p:nvPr/>
        </p:nvGrpSpPr>
        <p:grpSpPr>
          <a:xfrm>
            <a:off x="6715080" y="1352520"/>
            <a:ext cx="1928880" cy="1571760"/>
            <a:chOff x="6715080" y="1352520"/>
            <a:chExt cx="1928880" cy="1571760"/>
          </a:xfrm>
        </p:grpSpPr>
        <p:sp>
          <p:nvSpPr>
            <p:cNvPr id="1081" name="TextBox 122"/>
            <p:cNvSpPr/>
            <p:nvPr/>
          </p:nvSpPr>
          <p:spPr>
            <a:xfrm>
              <a:off x="6715080" y="1352520"/>
              <a:ext cx="192888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 2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×   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直接连接符 123"/>
            <p:cNvSpPr/>
            <p:nvPr/>
          </p:nvSpPr>
          <p:spPr>
            <a:xfrm>
              <a:off x="6929280" y="25671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Rectangle 51"/>
          <p:cNvSpPr/>
          <p:nvPr/>
        </p:nvSpPr>
        <p:spPr>
          <a:xfrm>
            <a:off x="2857680" y="251784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 5 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51"/>
          <p:cNvSpPr/>
          <p:nvPr/>
        </p:nvSpPr>
        <p:spPr>
          <a:xfrm>
            <a:off x="4572000" y="2517840"/>
            <a:ext cx="150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 0 4 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51"/>
          <p:cNvSpPr/>
          <p:nvPr/>
        </p:nvSpPr>
        <p:spPr>
          <a:xfrm>
            <a:off x="6929280" y="2517840"/>
            <a:ext cx="14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 2 6 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8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89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0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1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TextBox 1"/>
          <p:cNvSpPr/>
          <p:nvPr/>
        </p:nvSpPr>
        <p:spPr>
          <a:xfrm>
            <a:off x="0" y="714240"/>
            <a:ext cx="2214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列竖式计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组合 11"/>
          <p:cNvGrpSpPr/>
          <p:nvPr/>
        </p:nvGrpSpPr>
        <p:grpSpPr>
          <a:xfrm>
            <a:off x="357120" y="1643040"/>
            <a:ext cx="1643040" cy="1571760"/>
            <a:chOff x="357120" y="1643040"/>
            <a:chExt cx="1643040" cy="1571760"/>
          </a:xfrm>
        </p:grpSpPr>
        <p:sp>
          <p:nvSpPr>
            <p:cNvPr id="1099" name="TextBox 4"/>
            <p:cNvSpPr/>
            <p:nvPr/>
          </p:nvSpPr>
          <p:spPr>
            <a:xfrm>
              <a:off x="357120" y="164304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7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 8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直接连接符 5"/>
            <p:cNvSpPr/>
            <p:nvPr/>
          </p:nvSpPr>
          <p:spPr>
            <a:xfrm>
              <a:off x="499680" y="2857680"/>
              <a:ext cx="14288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1" name="TextBox 1"/>
          <p:cNvSpPr/>
          <p:nvPr/>
        </p:nvSpPr>
        <p:spPr>
          <a:xfrm>
            <a:off x="285840" y="1214280"/>
            <a:ext cx="8429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2×4          93×2          41×8          53×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Box 7"/>
          <p:cNvSpPr/>
          <p:nvPr/>
        </p:nvSpPr>
        <p:spPr>
          <a:xfrm>
            <a:off x="1143000" y="1214280"/>
            <a:ext cx="121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88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Box 8"/>
          <p:cNvSpPr/>
          <p:nvPr/>
        </p:nvSpPr>
        <p:spPr>
          <a:xfrm>
            <a:off x="3500280" y="121428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18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Box 9"/>
          <p:cNvSpPr/>
          <p:nvPr/>
        </p:nvSpPr>
        <p:spPr>
          <a:xfrm>
            <a:off x="5857920" y="1214280"/>
            <a:ext cx="121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32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组合 11"/>
          <p:cNvGrpSpPr/>
          <p:nvPr/>
        </p:nvGrpSpPr>
        <p:grpSpPr>
          <a:xfrm>
            <a:off x="2643120" y="1643040"/>
            <a:ext cx="1643040" cy="1571760"/>
            <a:chOff x="2643120" y="1643040"/>
            <a:chExt cx="1643040" cy="1571760"/>
          </a:xfrm>
        </p:grpSpPr>
        <p:sp>
          <p:nvSpPr>
            <p:cNvPr id="1106" name="TextBox 11"/>
            <p:cNvSpPr/>
            <p:nvPr/>
          </p:nvSpPr>
          <p:spPr>
            <a:xfrm>
              <a:off x="2643120" y="164304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9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8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直接连接符 12"/>
            <p:cNvSpPr/>
            <p:nvPr/>
          </p:nvSpPr>
          <p:spPr>
            <a:xfrm>
              <a:off x="2785680" y="2857680"/>
              <a:ext cx="14288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组合 11"/>
          <p:cNvGrpSpPr/>
          <p:nvPr/>
        </p:nvGrpSpPr>
        <p:grpSpPr>
          <a:xfrm>
            <a:off x="5072040" y="1643040"/>
            <a:ext cx="1643040" cy="1571760"/>
            <a:chOff x="5072040" y="1643040"/>
            <a:chExt cx="1643040" cy="1571760"/>
          </a:xfrm>
        </p:grpSpPr>
        <p:sp>
          <p:nvSpPr>
            <p:cNvPr id="1109" name="TextBox 14"/>
            <p:cNvSpPr/>
            <p:nvPr/>
          </p:nvSpPr>
          <p:spPr>
            <a:xfrm>
              <a:off x="5072040" y="164304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4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2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直接连接符 15"/>
            <p:cNvSpPr/>
            <p:nvPr/>
          </p:nvSpPr>
          <p:spPr>
            <a:xfrm>
              <a:off x="5214600" y="2857680"/>
              <a:ext cx="14288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组合 11"/>
          <p:cNvGrpSpPr/>
          <p:nvPr/>
        </p:nvGrpSpPr>
        <p:grpSpPr>
          <a:xfrm>
            <a:off x="7072200" y="1643040"/>
            <a:ext cx="1643040" cy="1571760"/>
            <a:chOff x="7072200" y="1643040"/>
            <a:chExt cx="1643040" cy="1571760"/>
          </a:xfrm>
        </p:grpSpPr>
        <p:sp>
          <p:nvSpPr>
            <p:cNvPr id="1112" name="TextBox 17"/>
            <p:cNvSpPr/>
            <p:nvPr/>
          </p:nvSpPr>
          <p:spPr>
            <a:xfrm>
              <a:off x="7072200" y="164304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5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5 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直接连接符 18"/>
            <p:cNvSpPr/>
            <p:nvPr/>
          </p:nvSpPr>
          <p:spPr>
            <a:xfrm>
              <a:off x="7214760" y="2857680"/>
              <a:ext cx="14288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组合 11"/>
          <p:cNvGrpSpPr/>
          <p:nvPr/>
        </p:nvGrpSpPr>
        <p:grpSpPr>
          <a:xfrm>
            <a:off x="357120" y="3927600"/>
            <a:ext cx="1643040" cy="1571400"/>
            <a:chOff x="357120" y="3927600"/>
            <a:chExt cx="1643040" cy="1571400"/>
          </a:xfrm>
        </p:grpSpPr>
        <p:sp>
          <p:nvSpPr>
            <p:cNvPr id="1115" name="TextBox 20"/>
            <p:cNvSpPr/>
            <p:nvPr/>
          </p:nvSpPr>
          <p:spPr>
            <a:xfrm>
              <a:off x="357120" y="392760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6 1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4 2 7 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直接连接符 21"/>
            <p:cNvSpPr/>
            <p:nvPr/>
          </p:nvSpPr>
          <p:spPr>
            <a:xfrm>
              <a:off x="499680" y="5141880"/>
              <a:ext cx="14288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TextBox 1"/>
          <p:cNvSpPr/>
          <p:nvPr/>
        </p:nvSpPr>
        <p:spPr>
          <a:xfrm>
            <a:off x="285840" y="3498840"/>
            <a:ext cx="8429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11×7        192×2         318×3        284×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Box 23"/>
          <p:cNvSpPr/>
          <p:nvPr/>
        </p:nvSpPr>
        <p:spPr>
          <a:xfrm>
            <a:off x="1285920" y="3498840"/>
            <a:ext cx="121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427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Box 24"/>
          <p:cNvSpPr/>
          <p:nvPr/>
        </p:nvSpPr>
        <p:spPr>
          <a:xfrm>
            <a:off x="3500280" y="349884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38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25"/>
          <p:cNvSpPr/>
          <p:nvPr/>
        </p:nvSpPr>
        <p:spPr>
          <a:xfrm>
            <a:off x="5857920" y="3498840"/>
            <a:ext cx="121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95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26"/>
          <p:cNvSpPr/>
          <p:nvPr/>
        </p:nvSpPr>
        <p:spPr>
          <a:xfrm>
            <a:off x="8072280" y="3498840"/>
            <a:ext cx="857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56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组合 11"/>
          <p:cNvGrpSpPr/>
          <p:nvPr/>
        </p:nvGrpSpPr>
        <p:grpSpPr>
          <a:xfrm>
            <a:off x="2643120" y="3927600"/>
            <a:ext cx="1643040" cy="1571400"/>
            <a:chOff x="2643120" y="3927600"/>
            <a:chExt cx="1643040" cy="1571400"/>
          </a:xfrm>
        </p:grpSpPr>
        <p:sp>
          <p:nvSpPr>
            <p:cNvPr id="1123" name="TextBox 28"/>
            <p:cNvSpPr/>
            <p:nvPr/>
          </p:nvSpPr>
          <p:spPr>
            <a:xfrm>
              <a:off x="2643120" y="392760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9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8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直接连接符 29"/>
            <p:cNvSpPr/>
            <p:nvPr/>
          </p:nvSpPr>
          <p:spPr>
            <a:xfrm>
              <a:off x="2785680" y="5141880"/>
              <a:ext cx="14288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组合 11"/>
          <p:cNvGrpSpPr/>
          <p:nvPr/>
        </p:nvGrpSpPr>
        <p:grpSpPr>
          <a:xfrm>
            <a:off x="5072040" y="3927600"/>
            <a:ext cx="1643040" cy="1571400"/>
            <a:chOff x="5072040" y="3927600"/>
            <a:chExt cx="1643040" cy="1571400"/>
          </a:xfrm>
        </p:grpSpPr>
        <p:sp>
          <p:nvSpPr>
            <p:cNvPr id="1126" name="TextBox 31"/>
            <p:cNvSpPr/>
            <p:nvPr/>
          </p:nvSpPr>
          <p:spPr>
            <a:xfrm>
              <a:off x="5072040" y="392760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1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9 5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直接连接符 32"/>
            <p:cNvSpPr/>
            <p:nvPr/>
          </p:nvSpPr>
          <p:spPr>
            <a:xfrm>
              <a:off x="5214600" y="5141880"/>
              <a:ext cx="14288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组合 11"/>
          <p:cNvGrpSpPr/>
          <p:nvPr/>
        </p:nvGrpSpPr>
        <p:grpSpPr>
          <a:xfrm>
            <a:off x="7072200" y="3927600"/>
            <a:ext cx="1643040" cy="1571400"/>
            <a:chOff x="7072200" y="3927600"/>
            <a:chExt cx="1643040" cy="1571400"/>
          </a:xfrm>
        </p:grpSpPr>
        <p:sp>
          <p:nvSpPr>
            <p:cNvPr id="1129" name="TextBox 34"/>
            <p:cNvSpPr/>
            <p:nvPr/>
          </p:nvSpPr>
          <p:spPr>
            <a:xfrm>
              <a:off x="7072200" y="392760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 8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5 6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直接连接符 35"/>
            <p:cNvSpPr/>
            <p:nvPr/>
          </p:nvSpPr>
          <p:spPr>
            <a:xfrm>
              <a:off x="7214760" y="5141880"/>
              <a:ext cx="14288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TextBox 55"/>
          <p:cNvSpPr/>
          <p:nvPr/>
        </p:nvSpPr>
        <p:spPr>
          <a:xfrm>
            <a:off x="8215200" y="121428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15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组合 2"/>
          <p:cNvGrpSpPr/>
          <p:nvPr/>
        </p:nvGrpSpPr>
        <p:grpSpPr>
          <a:xfrm>
            <a:off x="38160" y="92160"/>
            <a:ext cx="3244680" cy="525240"/>
            <a:chOff x="38160" y="92160"/>
            <a:chExt cx="3244680" cy="525240"/>
          </a:xfrm>
        </p:grpSpPr>
        <p:pic>
          <p:nvPicPr>
            <p:cNvPr id="113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88640" y="92160"/>
              <a:ext cx="3094200" cy="52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4" name="组合 4"/>
            <p:cNvGrpSpPr/>
            <p:nvPr/>
          </p:nvGrpSpPr>
          <p:grpSpPr>
            <a:xfrm>
              <a:off x="38160" y="187920"/>
              <a:ext cx="429840" cy="271440"/>
              <a:chOff x="38160" y="187920"/>
              <a:chExt cx="429840" cy="271440"/>
            </a:xfrm>
          </p:grpSpPr>
          <p:sp>
            <p:nvSpPr>
              <p:cNvPr id="1135" name="椭圆 1"/>
              <p:cNvSpPr/>
              <p:nvPr/>
            </p:nvSpPr>
            <p:spPr>
              <a:xfrm rot="16200000">
                <a:off x="281160" y="3502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6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6320" y="3142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7" name="椭圆 29"/>
              <p:cNvSpPr/>
              <p:nvPr/>
            </p:nvSpPr>
            <p:spPr>
              <a:xfrm rot="16200000">
                <a:off x="281160" y="2246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56320" y="2023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38160" y="330120"/>
                <a:ext cx="35640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38160" y="302400"/>
                <a:ext cx="35640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38160" y="215640"/>
                <a:ext cx="35640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38160" y="187920"/>
                <a:ext cx="356400" cy="99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组合 2"/>
          <p:cNvGrpSpPr/>
          <p:nvPr/>
        </p:nvGrpSpPr>
        <p:grpSpPr>
          <a:xfrm>
            <a:off x="0" y="174600"/>
            <a:ext cx="3255840" cy="525600"/>
            <a:chOff x="0" y="174600"/>
            <a:chExt cx="3255840" cy="525600"/>
          </a:xfrm>
        </p:grpSpPr>
        <p:pic>
          <p:nvPicPr>
            <p:cNvPr id="114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60920" y="174600"/>
              <a:ext cx="30949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5" name="组合 4"/>
            <p:cNvGrpSpPr/>
            <p:nvPr/>
          </p:nvGrpSpPr>
          <p:grpSpPr>
            <a:xfrm>
              <a:off x="0" y="217440"/>
              <a:ext cx="430200" cy="273600"/>
              <a:chOff x="0" y="217440"/>
              <a:chExt cx="430200" cy="273600"/>
            </a:xfrm>
          </p:grpSpPr>
          <p:sp>
            <p:nvSpPr>
              <p:cNvPr id="1146" name="椭圆 1"/>
              <p:cNvSpPr/>
              <p:nvPr/>
            </p:nvSpPr>
            <p:spPr>
              <a:xfrm rot="16200000">
                <a:off x="242640" y="3816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44520"/>
                <a:ext cx="21204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8" name="椭圆 29"/>
              <p:cNvSpPr/>
              <p:nvPr/>
            </p:nvSpPr>
            <p:spPr>
              <a:xfrm rot="16200000">
                <a:off x="242640" y="25488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31840"/>
                <a:ext cx="21204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6108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264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4552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1744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4" name="文本框 2"/>
          <p:cNvSpPr/>
          <p:nvPr/>
        </p:nvSpPr>
        <p:spPr>
          <a:xfrm>
            <a:off x="954000" y="1098720"/>
            <a:ext cx="80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多位数乘一位数（不连续进位）的笔算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3"/>
          <p:cNvSpPr/>
          <p:nvPr/>
        </p:nvSpPr>
        <p:spPr>
          <a:xfrm>
            <a:off x="636480" y="1690560"/>
            <a:ext cx="7967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位数乘一位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连续进位）的笔算方法，先将一位数与多位数的个位对齐，在从个位乘起，哪一位相乘满几十就要向前一位进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6" name="组合 2"/>
          <p:cNvGrpSpPr/>
          <p:nvPr/>
        </p:nvGrpSpPr>
        <p:grpSpPr>
          <a:xfrm>
            <a:off x="0" y="174600"/>
            <a:ext cx="3255840" cy="525600"/>
            <a:chOff x="0" y="174600"/>
            <a:chExt cx="3255840" cy="525600"/>
          </a:xfrm>
        </p:grpSpPr>
        <p:pic>
          <p:nvPicPr>
            <p:cNvPr id="115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60920" y="174600"/>
              <a:ext cx="30949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8" name="组合 4"/>
            <p:cNvGrpSpPr/>
            <p:nvPr/>
          </p:nvGrpSpPr>
          <p:grpSpPr>
            <a:xfrm>
              <a:off x="0" y="218880"/>
              <a:ext cx="430200" cy="271800"/>
              <a:chOff x="0" y="218880"/>
              <a:chExt cx="430200" cy="271800"/>
            </a:xfrm>
          </p:grpSpPr>
          <p:sp>
            <p:nvSpPr>
              <p:cNvPr id="1159" name="椭圆 1"/>
              <p:cNvSpPr/>
              <p:nvPr/>
            </p:nvSpPr>
            <p:spPr>
              <a:xfrm rot="16200000">
                <a:off x="243000" y="3816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4524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1" name="椭圆 29"/>
              <p:cNvSpPr/>
              <p:nvPr/>
            </p:nvSpPr>
            <p:spPr>
              <a:xfrm rot="16200000">
                <a:off x="243000" y="2556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3328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6144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336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4660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1888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7" name="文本框 99"/>
          <p:cNvSpPr/>
          <p:nvPr/>
        </p:nvSpPr>
        <p:spPr>
          <a:xfrm>
            <a:off x="365040" y="1057320"/>
            <a:ext cx="85838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列竖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7×3=          61×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2×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组合 11"/>
          <p:cNvGrpSpPr/>
          <p:nvPr/>
        </p:nvGrpSpPr>
        <p:grpSpPr>
          <a:xfrm>
            <a:off x="4019400" y="2322360"/>
            <a:ext cx="1643040" cy="1571760"/>
            <a:chOff x="4019400" y="2322360"/>
            <a:chExt cx="1643040" cy="1571760"/>
          </a:xfrm>
        </p:grpSpPr>
        <p:sp>
          <p:nvSpPr>
            <p:cNvPr id="1169" name="TextBox 4"/>
            <p:cNvSpPr/>
            <p:nvPr/>
          </p:nvSpPr>
          <p:spPr>
            <a:xfrm>
              <a:off x="4019400" y="232236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6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0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直接连接符 5"/>
            <p:cNvSpPr/>
            <p:nvPr/>
          </p:nvSpPr>
          <p:spPr>
            <a:xfrm>
              <a:off x="4125960" y="3549240"/>
              <a:ext cx="14288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1" name="TextBox 7"/>
          <p:cNvSpPr/>
          <p:nvPr/>
        </p:nvSpPr>
        <p:spPr>
          <a:xfrm>
            <a:off x="2216160" y="1471680"/>
            <a:ext cx="121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1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组合 11"/>
          <p:cNvGrpSpPr/>
          <p:nvPr/>
        </p:nvGrpSpPr>
        <p:grpSpPr>
          <a:xfrm>
            <a:off x="925560" y="2247840"/>
            <a:ext cx="1643040" cy="1571760"/>
            <a:chOff x="925560" y="2247840"/>
            <a:chExt cx="1643040" cy="1571760"/>
          </a:xfrm>
        </p:grpSpPr>
        <p:sp>
          <p:nvSpPr>
            <p:cNvPr id="1173" name="TextBox 4"/>
            <p:cNvSpPr/>
            <p:nvPr/>
          </p:nvSpPr>
          <p:spPr>
            <a:xfrm>
              <a:off x="925560" y="224784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5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直接连接符 5"/>
            <p:cNvSpPr/>
            <p:nvPr/>
          </p:nvSpPr>
          <p:spPr>
            <a:xfrm>
              <a:off x="1068120" y="3462480"/>
              <a:ext cx="14288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TextBox 7"/>
          <p:cNvSpPr/>
          <p:nvPr/>
        </p:nvSpPr>
        <p:spPr>
          <a:xfrm>
            <a:off x="5216400" y="1471680"/>
            <a:ext cx="88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05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组合 11"/>
          <p:cNvGrpSpPr/>
          <p:nvPr/>
        </p:nvGrpSpPr>
        <p:grpSpPr>
          <a:xfrm>
            <a:off x="6534000" y="2411280"/>
            <a:ext cx="1643040" cy="1571760"/>
            <a:chOff x="6534000" y="2411280"/>
            <a:chExt cx="1643040" cy="1571760"/>
          </a:xfrm>
        </p:grpSpPr>
        <p:sp>
          <p:nvSpPr>
            <p:cNvPr id="1177" name="TextBox 4"/>
            <p:cNvSpPr/>
            <p:nvPr/>
          </p:nvSpPr>
          <p:spPr>
            <a:xfrm>
              <a:off x="6534000" y="241128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8 0 2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2 0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直接连接符 5"/>
            <p:cNvSpPr/>
            <p:nvPr/>
          </p:nvSpPr>
          <p:spPr>
            <a:xfrm>
              <a:off x="6641280" y="3625920"/>
              <a:ext cx="14288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9" name="TextBox 7"/>
          <p:cNvSpPr/>
          <p:nvPr/>
        </p:nvSpPr>
        <p:spPr>
          <a:xfrm>
            <a:off x="7734240" y="147168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208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组合 2"/>
          <p:cNvGrpSpPr/>
          <p:nvPr/>
        </p:nvGrpSpPr>
        <p:grpSpPr>
          <a:xfrm>
            <a:off x="0" y="174600"/>
            <a:ext cx="3255840" cy="525600"/>
            <a:chOff x="0" y="174600"/>
            <a:chExt cx="3255840" cy="525600"/>
          </a:xfrm>
        </p:grpSpPr>
        <p:pic>
          <p:nvPicPr>
            <p:cNvPr id="118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60920" y="174600"/>
              <a:ext cx="30949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2" name="组合 4"/>
            <p:cNvGrpSpPr/>
            <p:nvPr/>
          </p:nvGrpSpPr>
          <p:grpSpPr>
            <a:xfrm>
              <a:off x="0" y="218880"/>
              <a:ext cx="430200" cy="271800"/>
              <a:chOff x="0" y="218880"/>
              <a:chExt cx="430200" cy="271800"/>
            </a:xfrm>
          </p:grpSpPr>
          <p:sp>
            <p:nvSpPr>
              <p:cNvPr id="1183" name="椭圆 1"/>
              <p:cNvSpPr/>
              <p:nvPr/>
            </p:nvSpPr>
            <p:spPr>
              <a:xfrm rot="16200000">
                <a:off x="243000" y="3816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4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4524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5" name="椭圆 29"/>
              <p:cNvSpPr/>
              <p:nvPr/>
            </p:nvSpPr>
            <p:spPr>
              <a:xfrm rot="16200000">
                <a:off x="243000" y="2556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3328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6144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336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4660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1888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91" name="文本框 99"/>
          <p:cNvSpPr/>
          <p:nvPr/>
        </p:nvSpPr>
        <p:spPr>
          <a:xfrm>
            <a:off x="425520" y="97632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连一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1073742907"/>
          <p:cNvSpPr/>
          <p:nvPr/>
        </p:nvSpPr>
        <p:spPr>
          <a:xfrm>
            <a:off x="1050840" y="1746360"/>
            <a:ext cx="1204920" cy="55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2"/>
          <p:cNvSpPr/>
          <p:nvPr/>
        </p:nvSpPr>
        <p:spPr>
          <a:xfrm>
            <a:off x="3319560" y="1746360"/>
            <a:ext cx="1203120" cy="55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3"/>
          <p:cNvSpPr/>
          <p:nvPr/>
        </p:nvSpPr>
        <p:spPr>
          <a:xfrm>
            <a:off x="5332320" y="1746360"/>
            <a:ext cx="1203480" cy="55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4"/>
          <p:cNvSpPr/>
          <p:nvPr/>
        </p:nvSpPr>
        <p:spPr>
          <a:xfrm>
            <a:off x="7472520" y="1746360"/>
            <a:ext cx="1203120" cy="55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6"/>
          <p:cNvSpPr/>
          <p:nvPr/>
        </p:nvSpPr>
        <p:spPr>
          <a:xfrm>
            <a:off x="1050840" y="4216320"/>
            <a:ext cx="1204920" cy="55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8"/>
          <p:cNvSpPr/>
          <p:nvPr/>
        </p:nvSpPr>
        <p:spPr>
          <a:xfrm>
            <a:off x="3319560" y="4216320"/>
            <a:ext cx="1203120" cy="55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文本框 9"/>
          <p:cNvSpPr/>
          <p:nvPr/>
        </p:nvSpPr>
        <p:spPr>
          <a:xfrm>
            <a:off x="5332320" y="4216320"/>
            <a:ext cx="1203480" cy="55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文本框 10"/>
          <p:cNvSpPr/>
          <p:nvPr/>
        </p:nvSpPr>
        <p:spPr>
          <a:xfrm>
            <a:off x="7472520" y="4216320"/>
            <a:ext cx="1203120" cy="55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文本框 11"/>
          <p:cNvSpPr/>
          <p:nvPr/>
        </p:nvSpPr>
        <p:spPr>
          <a:xfrm>
            <a:off x="1050840" y="1793880"/>
            <a:ext cx="15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32×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文本框 12"/>
          <p:cNvSpPr/>
          <p:nvPr/>
        </p:nvSpPr>
        <p:spPr>
          <a:xfrm>
            <a:off x="3319560" y="1793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8×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文本框 13"/>
          <p:cNvSpPr/>
          <p:nvPr/>
        </p:nvSpPr>
        <p:spPr>
          <a:xfrm>
            <a:off x="5332320" y="1793880"/>
            <a:ext cx="15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6×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文本框 15"/>
          <p:cNvSpPr/>
          <p:nvPr/>
        </p:nvSpPr>
        <p:spPr>
          <a:xfrm>
            <a:off x="7472520" y="1793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×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文本框 16"/>
          <p:cNvSpPr/>
          <p:nvPr/>
        </p:nvSpPr>
        <p:spPr>
          <a:xfrm>
            <a:off x="1050840" y="4264200"/>
            <a:ext cx="15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6×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文本框 17"/>
          <p:cNvSpPr/>
          <p:nvPr/>
        </p:nvSpPr>
        <p:spPr>
          <a:xfrm>
            <a:off x="3319560" y="426420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64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文本框 18"/>
          <p:cNvSpPr/>
          <p:nvPr/>
        </p:nvSpPr>
        <p:spPr>
          <a:xfrm>
            <a:off x="5332320" y="4264200"/>
            <a:ext cx="15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3×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文本框 19"/>
          <p:cNvSpPr/>
          <p:nvPr/>
        </p:nvSpPr>
        <p:spPr>
          <a:xfrm>
            <a:off x="7472520" y="431172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4×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直接连接符 2"/>
          <p:cNvSpPr/>
          <p:nvPr/>
        </p:nvSpPr>
        <p:spPr>
          <a:xfrm>
            <a:off x="1793880" y="2496960"/>
            <a:ext cx="2130480" cy="1652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直接连接符 3"/>
          <p:cNvSpPr/>
          <p:nvPr/>
        </p:nvSpPr>
        <p:spPr>
          <a:xfrm flipH="1">
            <a:off x="1979640" y="2387520"/>
            <a:ext cx="1822320" cy="161784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直接连接符 4"/>
          <p:cNvSpPr/>
          <p:nvPr/>
        </p:nvSpPr>
        <p:spPr>
          <a:xfrm>
            <a:off x="5983200" y="2421000"/>
            <a:ext cx="2154240" cy="162720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直接连接符 6"/>
          <p:cNvSpPr/>
          <p:nvPr/>
        </p:nvSpPr>
        <p:spPr>
          <a:xfrm flipV="1">
            <a:off x="6093000" y="2420640"/>
            <a:ext cx="1935000" cy="160812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2" name="组合 2"/>
          <p:cNvGrpSpPr/>
          <p:nvPr/>
        </p:nvGrpSpPr>
        <p:grpSpPr>
          <a:xfrm>
            <a:off x="0" y="174600"/>
            <a:ext cx="3255840" cy="525600"/>
            <a:chOff x="0" y="174600"/>
            <a:chExt cx="3255840" cy="525600"/>
          </a:xfrm>
        </p:grpSpPr>
        <p:pic>
          <p:nvPicPr>
            <p:cNvPr id="121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60920" y="174600"/>
              <a:ext cx="30949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4" name="组合 4"/>
            <p:cNvGrpSpPr/>
            <p:nvPr/>
          </p:nvGrpSpPr>
          <p:grpSpPr>
            <a:xfrm>
              <a:off x="0" y="218880"/>
              <a:ext cx="430200" cy="271800"/>
              <a:chOff x="0" y="218880"/>
              <a:chExt cx="430200" cy="271800"/>
            </a:xfrm>
          </p:grpSpPr>
          <p:sp>
            <p:nvSpPr>
              <p:cNvPr id="1215" name="椭圆 1"/>
              <p:cNvSpPr/>
              <p:nvPr/>
            </p:nvSpPr>
            <p:spPr>
              <a:xfrm rot="16200000">
                <a:off x="243000" y="3816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6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4524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7" name="椭圆 29"/>
              <p:cNvSpPr/>
              <p:nvPr/>
            </p:nvSpPr>
            <p:spPr>
              <a:xfrm rot="16200000">
                <a:off x="243000" y="2556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3328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6144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336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4660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1888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3" name="文本框 99"/>
          <p:cNvSpPr/>
          <p:nvPr/>
        </p:nvSpPr>
        <p:spPr>
          <a:xfrm>
            <a:off x="441360" y="1125360"/>
            <a:ext cx="81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一根铁丝，剪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，剩下的是剪下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这根铁丝原来长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文本框 2"/>
          <p:cNvSpPr/>
          <p:nvPr/>
        </p:nvSpPr>
        <p:spPr>
          <a:xfrm>
            <a:off x="1378080" y="2558880"/>
            <a:ext cx="366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+16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=11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文本框 3"/>
          <p:cNvSpPr/>
          <p:nvPr/>
        </p:nvSpPr>
        <p:spPr>
          <a:xfrm>
            <a:off x="1181160" y="3294000"/>
            <a:ext cx="47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这根铁丝原来长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1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6T11:02:33Z</dcterms:created>
  <dc:creator/>
  <dc:description/>
  <dc:language>en-US</dc:language>
  <cp:lastModifiedBy>万润仪器贸易公司</cp:lastModifiedBy>
  <dcterms:modified xsi:type="dcterms:W3CDTF">2020-08-21T01:24:38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